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9AEB-8733-4F6F-8FE6-745BDB306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DDD1-679C-444B-95B1-20E005D7F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FFCA-E641-41AB-9DEC-AFA6219F5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4C13-2334-4903-839E-5B5A3A7CD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0892-5DA7-4893-978E-098BCAAA8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C52C-1FCB-4AB9-8AE2-6789A8F07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D249-E3F7-461E-90DA-1B63DE632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F491-5FA1-4900-A413-EAE8912BF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E11C-0038-42E1-9143-E3BFDE177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6AEB-4F26-47E8-ADEE-3D37E2B8E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CABD-3BFC-4060-A129-30790484A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863A-103B-4A77-8E59-1DECD6B69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0DC7-ACF8-4E5C-9539-57A7F6692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69C3-BD80-4511-BAB1-B4BF83F27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6871-727A-4D36-8F7F-18B1C85E6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glencoe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4">
            <a:hlinkClick r:id="" action="ppaction://hlinkshowjump?jump=endshow"/>
          </p:cNvPr>
          <p:cNvSpPr/>
          <p:nvPr/>
        </p:nvSpPr>
        <p:spPr>
          <a:xfrm>
            <a:off x="343080" y="6303960"/>
            <a:ext cx="71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5">
            <a:hlinkClick r:id="rId4"/>
          </p:cNvPr>
          <p:cNvSpPr/>
          <p:nvPr/>
        </p:nvSpPr>
        <p:spPr>
          <a:xfrm>
            <a:off x="1582560" y="630396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6"/>
          <p:cNvSpPr/>
          <p:nvPr/>
        </p:nvSpPr>
        <p:spPr>
          <a:xfrm>
            <a:off x="2857680" y="630396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7"/>
          <p:cNvSpPr/>
          <p:nvPr/>
        </p:nvSpPr>
        <p:spPr>
          <a:xfrm>
            <a:off x="4448160" y="6303960"/>
            <a:ext cx="177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5" descr="section 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white glow"/>
          <p:cNvPicPr/>
          <p:nvPr/>
        </p:nvPicPr>
        <p:blipFill>
          <a:blip r:embed="rId3"/>
          <a:stretch/>
        </p:blipFill>
        <p:spPr>
          <a:xfrm>
            <a:off x="469800" y="295272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white glow"/>
          <p:cNvPicPr/>
          <p:nvPr/>
        </p:nvPicPr>
        <p:blipFill>
          <a:blip r:embed="rId4"/>
          <a:stretch/>
        </p:blipFill>
        <p:spPr>
          <a:xfrm>
            <a:off x="3035160" y="191448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white glow"/>
          <p:cNvPicPr/>
          <p:nvPr/>
        </p:nvPicPr>
        <p:blipFill>
          <a:blip r:embed="rId5"/>
          <a:stretch/>
        </p:blipFill>
        <p:spPr>
          <a:xfrm>
            <a:off x="1633680" y="3516480"/>
            <a:ext cx="304560" cy="23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white glow"/>
          <p:cNvPicPr/>
          <p:nvPr/>
        </p:nvPicPr>
        <p:blipFill>
          <a:blip r:embed="rId6"/>
          <a:stretch/>
        </p:blipFill>
        <p:spPr>
          <a:xfrm>
            <a:off x="2808360" y="3103560"/>
            <a:ext cx="304560" cy="239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white glow"/>
          <p:cNvPicPr/>
          <p:nvPr/>
        </p:nvPicPr>
        <p:blipFill>
          <a:blip r:embed="rId7"/>
          <a:stretch/>
        </p:blipFill>
        <p:spPr>
          <a:xfrm>
            <a:off x="3773520" y="301932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white glow"/>
          <p:cNvPicPr/>
          <p:nvPr/>
        </p:nvPicPr>
        <p:blipFill>
          <a:blip r:embed="rId8"/>
          <a:stretch/>
        </p:blipFill>
        <p:spPr>
          <a:xfrm>
            <a:off x="4017960" y="2951280"/>
            <a:ext cx="262080" cy="20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white glow"/>
          <p:cNvPicPr/>
          <p:nvPr/>
        </p:nvPicPr>
        <p:blipFill>
          <a:blip r:embed="rId9"/>
          <a:stretch/>
        </p:blipFill>
        <p:spPr>
          <a:xfrm>
            <a:off x="4626000" y="294948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white glow"/>
          <p:cNvPicPr/>
          <p:nvPr/>
        </p:nvPicPr>
        <p:blipFill>
          <a:blip r:embed="rId10"/>
          <a:stretch/>
        </p:blipFill>
        <p:spPr>
          <a:xfrm>
            <a:off x="4836960" y="3016080"/>
            <a:ext cx="262080" cy="206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5431680" y="5144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"/>
          <p:cNvSpPr/>
          <p:nvPr/>
        </p:nvSpPr>
        <p:spPr>
          <a:xfrm>
            <a:off x="5433480" y="954000"/>
            <a:ext cx="282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Economic 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Resourc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9"/>
          <p:cNvSpPr/>
          <p:nvPr/>
        </p:nvSpPr>
        <p:spPr>
          <a:xfrm>
            <a:off x="5430240" y="25210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0"/>
          <p:cNvSpPr/>
          <p:nvPr/>
        </p:nvSpPr>
        <p:spPr>
          <a:xfrm>
            <a:off x="5433480" y="292752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Economic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6"/>
          <p:cNvSpPr/>
          <p:nvPr/>
        </p:nvSpPr>
        <p:spPr>
          <a:xfrm>
            <a:off x="6126120" y="4462560"/>
            <a:ext cx="22129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7">
            <a:hlinkClick r:id="" action="ppaction://hlinkshowjump?jump=endshow"/>
          </p:cNvPr>
          <p:cNvSpPr/>
          <p:nvPr/>
        </p:nvSpPr>
        <p:spPr>
          <a:xfrm>
            <a:off x="6118200" y="393876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8"/>
          <p:cNvSpPr/>
          <p:nvPr/>
        </p:nvSpPr>
        <p:spPr>
          <a:xfrm>
            <a:off x="6118200" y="495792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9"/>
          <p:cNvSpPr/>
          <p:nvPr/>
        </p:nvSpPr>
        <p:spPr>
          <a:xfrm>
            <a:off x="6118200" y="547704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Objectives: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supply and demand orally and with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how supply and demand affect prices of product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:  How does supply and demand affect pr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Consumers set demand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141" name="Picture 3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4932360" y="2575080"/>
            <a:ext cx="38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quantity of a good or service that businesses are willing and able to provide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9840" y="200664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consumer wants a product/service and is willing to pay more money for i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ck yeah! They are going to supply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 – DVD’s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fig"/>
          <p:cNvPicPr/>
          <p:nvPr/>
        </p:nvPicPr>
        <p:blipFill>
          <a:blip r:embed="rId1"/>
          <a:stretch/>
        </p:blipFill>
        <p:spPr>
          <a:xfrm>
            <a:off x="665280" y="2004840"/>
            <a:ext cx="8478720" cy="3870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32040" y="1345680"/>
            <a:ext cx="551664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Supply, Demand, and Equilibrium</a:t>
            </a:r>
            <a:endParaRPr b="1" lang="en-US" sz="24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264960" y="1303200"/>
            <a:ext cx="1422720" cy="541440"/>
          </a:xfrm>
          <a:prstGeom prst="roundRect">
            <a:avLst>
              <a:gd name="adj" fmla="val 35157"/>
            </a:avLst>
          </a:prstGeom>
          <a:solidFill>
            <a:srgbClr val="23408f"/>
          </a:solidFill>
          <a:ln w="50760">
            <a:solidFill>
              <a:srgbClr val="9ed3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Figure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19040" y="3333600"/>
            <a:ext cx="243864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Supply curve is always upward slop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nt: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u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ly –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UP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0000"/>
                </a:solidFill>
                <a:latin typeface="Arial"/>
              </a:rPr>
              <a:t>Supply and price – think in terms of a producer </a:t>
            </a:r>
            <a:endParaRPr b="1" lang="en-US" sz="28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74480" y="190008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rice of a product increases, the supply will increase because the supplies will make more mone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     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1504800" y="3352680"/>
            <a:ext cx="762120" cy="1086120"/>
          </a:xfrm>
          <a:prstGeom prst="upArrow">
            <a:avLst>
              <a:gd name="adj1" fmla="val 50000"/>
              <a:gd name="adj2" fmla="val 356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 rot="10800000">
            <a:off x="3161880" y="4695840"/>
            <a:ext cx="762120" cy="1085760"/>
          </a:xfrm>
          <a:prstGeom prst="upArrow">
            <a:avLst>
              <a:gd name="adj1" fmla="val 50000"/>
              <a:gd name="adj2" fmla="val 356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 rot="10800000">
            <a:off x="1504440" y="4695840"/>
            <a:ext cx="762120" cy="1085760"/>
          </a:xfrm>
          <a:prstGeom prst="upArrow">
            <a:avLst>
              <a:gd name="adj1" fmla="val 50000"/>
              <a:gd name="adj2" fmla="val 356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3162240" y="3362400"/>
            <a:ext cx="762120" cy="1085760"/>
          </a:xfrm>
          <a:prstGeom prst="upArrow">
            <a:avLst>
              <a:gd name="adj1" fmla="val 50000"/>
              <a:gd name="adj2" fmla="val 356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Determining Price – pg 25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influenc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see a bunch of products that will satisfy our want/need, demand is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can’t find a good substitute for a product we want, demand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Determining Price – pg 25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influenc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 of a product affects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west had a drought, supply of corn is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it affect supply and pr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disa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think of an 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Determining Market Pric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5880" y="210168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it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determine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arket pr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 product or servi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Determining Market Pric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161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4932360" y="2575080"/>
            <a:ext cx="38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Market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 where supply and demand are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495360" y="2184480"/>
            <a:ext cx="3908520" cy="390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2040" y="1345680"/>
            <a:ext cx="551664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Supply, Demand, and Equilibrium</a:t>
            </a:r>
            <a:endParaRPr b="1" lang="en-US" sz="24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264960" y="1303200"/>
            <a:ext cx="1422720" cy="541440"/>
          </a:xfrm>
          <a:prstGeom prst="roundRect">
            <a:avLst>
              <a:gd name="adj" fmla="val 35157"/>
            </a:avLst>
          </a:prstGeom>
          <a:solidFill>
            <a:srgbClr val="23408f"/>
          </a:solidFill>
          <a:ln w="50760">
            <a:solidFill>
              <a:srgbClr val="9ed3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Figure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fig"/>
          <p:cNvPicPr/>
          <p:nvPr/>
        </p:nvPicPr>
        <p:blipFill>
          <a:blip r:embed="rId1"/>
          <a:stretch/>
        </p:blipFill>
        <p:spPr>
          <a:xfrm>
            <a:off x="447840" y="1947960"/>
            <a:ext cx="8416800" cy="38415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3257640" y="1809720"/>
            <a:ext cx="12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8210520" y="21528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4971960" y="1981080"/>
            <a:ext cx="1486080" cy="1771920"/>
            <a:chOff x="4971960" y="1981080"/>
            <a:chExt cx="1486080" cy="1771920"/>
          </a:xfrm>
        </p:grpSpPr>
        <p:sp>
          <p:nvSpPr>
            <p:cNvPr id="170" name="Text Box 8"/>
            <p:cNvSpPr/>
            <p:nvPr/>
          </p:nvSpPr>
          <p:spPr>
            <a:xfrm>
              <a:off x="4971960" y="1981080"/>
              <a:ext cx="148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at’s this called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9"/>
            <p:cNvSpPr/>
            <p:nvPr/>
          </p:nvSpPr>
          <p:spPr>
            <a:xfrm flipH="1">
              <a:off x="5581440" y="2514600"/>
              <a:ext cx="323640" cy="12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10"/>
          <p:cNvSpPr/>
          <p:nvPr/>
        </p:nvSpPr>
        <p:spPr>
          <a:xfrm>
            <a:off x="4724280" y="4438800"/>
            <a:ext cx="22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rke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section review copy"/>
          <p:cNvPicPr/>
          <p:nvPr/>
        </p:nvPicPr>
        <p:blipFill>
          <a:blip r:embed="rId1"/>
          <a:stretch/>
        </p:blipFill>
        <p:spPr>
          <a:xfrm>
            <a:off x="490680" y="1201680"/>
            <a:ext cx="8491320" cy="50245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003320" y="23670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1.  The demand curve slopes which 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965160" y="3705120"/>
            <a:ext cx="71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Down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section review copy"/>
          <p:cNvPicPr/>
          <p:nvPr/>
        </p:nvPicPr>
        <p:blipFill>
          <a:blip r:embed="rId1"/>
          <a:stretch/>
        </p:blipFill>
        <p:spPr>
          <a:xfrm>
            <a:off x="490680" y="1201680"/>
            <a:ext cx="8491320" cy="50245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003320" y="23670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1.  The supply curve slopes which 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65160" y="3705120"/>
            <a:ext cx="71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Up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Participating in a Market Economy (USA)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market economy, buyers and sellers use the marketplace to make economic decis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decisions are made by consumers—including me and you, businesses and gov’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Participating in a market econom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dividual buying decisions of consumers (me and you) have a tremendous influence on the market econom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4932360" y="2575080"/>
            <a:ext cx="38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erson who buys and uses goods an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 are all consumer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Participating in a market econom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rs pay close attention to the needs and activities of consum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produ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y decide what products to s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$$$$$$$$$$$$$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4932360" y="2575080"/>
            <a:ext cx="3824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and organizations that determine what products and services will be available for sa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A bit confusing, eh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usinesses can produce and sell whatever they want at whatever pric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, as consumers, can buy whatever we want at prices we want to spend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n’t this be one big messed up system?  How could producers and consumers ever ag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0000"/>
                </a:solidFill>
                <a:latin typeface="Arial"/>
              </a:rPr>
              <a:t>NO!  That’s where the theory of Supply and Demand comes to the rescue!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Consumers set demand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124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932360" y="2575080"/>
            <a:ext cx="38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ity of a good or service that consumers are willing and able to buy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9840" y="200664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rol dem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onsumers don’t want to buy a product, the demand g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 – New DVD in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 flipH="1">
            <a:off x="3099960" y="4017960"/>
            <a:ext cx="4680" cy="833400"/>
          </a:xfrm>
          <a:prstGeom prst="line">
            <a:avLst/>
          </a:prstGeom>
          <a:ln w="193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Demand and pric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74480" y="1739520"/>
            <a:ext cx="86691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ice increases the demand will decrease because people will buy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24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24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       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847880" y="3009960"/>
            <a:ext cx="762120" cy="1276200"/>
          </a:xfrm>
          <a:prstGeom prst="upArrow">
            <a:avLst>
              <a:gd name="adj1" fmla="val 50000"/>
              <a:gd name="adj2" fmla="val 4186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962520" y="4381560"/>
            <a:ext cx="761760" cy="1276200"/>
          </a:xfrm>
          <a:prstGeom prst="upArrow">
            <a:avLst>
              <a:gd name="adj1" fmla="val 50000"/>
              <a:gd name="adj2" fmla="val 418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 rot="10800000">
            <a:off x="1847520" y="4514400"/>
            <a:ext cx="762120" cy="1143000"/>
          </a:xfrm>
          <a:prstGeom prst="upArrow">
            <a:avLst>
              <a:gd name="adj1" fmla="val 50000"/>
              <a:gd name="adj2" fmla="val 374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3"/>
          <p:cNvSpPr/>
          <p:nvPr/>
        </p:nvSpPr>
        <p:spPr>
          <a:xfrm rot="10800000">
            <a:off x="3962520" y="3114360"/>
            <a:ext cx="761760" cy="1066680"/>
          </a:xfrm>
          <a:prstGeom prst="upArrow">
            <a:avLst>
              <a:gd name="adj1" fmla="val 50000"/>
              <a:gd name="adj2" fmla="val 350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31680" y="1346040"/>
            <a:ext cx="5878440" cy="7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Supply, Demand, and Market Price*</a:t>
            </a:r>
            <a:br>
              <a:rPr sz="2400"/>
            </a:b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Draw an example of this in your notes!</a:t>
            </a:r>
            <a:endParaRPr b="1" lang="en-US" sz="24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264960" y="1303200"/>
            <a:ext cx="1422720" cy="541440"/>
          </a:xfrm>
          <a:prstGeom prst="roundRect">
            <a:avLst>
              <a:gd name="adj" fmla="val 35157"/>
            </a:avLst>
          </a:prstGeom>
          <a:solidFill>
            <a:srgbClr val="23408f"/>
          </a:solidFill>
          <a:ln w="50760">
            <a:solidFill>
              <a:srgbClr val="9ed3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Figure 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" descr="fig"/>
          <p:cNvPicPr/>
          <p:nvPr/>
        </p:nvPicPr>
        <p:blipFill>
          <a:blip r:embed="rId1"/>
          <a:stretch/>
        </p:blipFill>
        <p:spPr>
          <a:xfrm>
            <a:off x="428760" y="2052720"/>
            <a:ext cx="8332560" cy="3803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"/>
          <p:cNvSpPr/>
          <p:nvPr/>
        </p:nvSpPr>
        <p:spPr>
          <a:xfrm>
            <a:off x="266760" y="3029040"/>
            <a:ext cx="27813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curve is always sloping dow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nt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nd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Producers establish Supply 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demand tells a business what type and what quantity of products and service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h.  A good business obviously isn’t going to keep producing a good/service that isn’t in demand anymo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0000"/>
                </a:solidFill>
                <a:latin typeface="Arial"/>
              </a:rPr>
              <a:t>Ex – silly bands will soon fade away like dust in the wind (pretty much already hav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2:01:37Z</dcterms:created>
  <dc:creator>Nigel Wright</dc:creator>
  <dc:description/>
  <dc:language>en-US</dc:language>
  <cp:lastModifiedBy>bstromes</cp:lastModifiedBy>
  <dcterms:modified xsi:type="dcterms:W3CDTF">2014-09-24T19:30:54Z</dcterms:modified>
  <cp:revision>70</cp:revision>
  <dc:subject/>
  <dc:title>Slide 1</dc:title>
</cp:coreProperties>
</file>